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04FE-7EE3-46C4-B5D7-C5E19AEA9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1878-AA37-46F8-893A-0D1B67CE1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4DE7-1C52-40AA-90A9-3452C0FDE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9BFC-94D4-4396-AB03-41D644FA8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888C4-CFC2-44F0-9567-CEC8F5B93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2C53E-96B0-4FF9-AFFF-91159F68A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BF644-A5FE-40CB-84E1-12498BC43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B6823-291C-4B29-ACB1-EC9140EEF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C9B12-3753-4F57-BA90-1CCFAAB10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2D7C4-E6CC-4C4D-A6EC-8CEBEB614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BD137-F7E4-4AC0-9309-1ECC18890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4D56-C8DB-4C52-8E66-0DA281B65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B5CFC-46FB-489A-870D-CE14A5257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02814-004A-4088-8E5A-FAB1E46C9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AB175-AD83-4E4F-B901-B55534348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08F11-57A5-4824-B368-374A011E6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872D4-FB59-43C8-AB60-57DC0A0B6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EC9A-45B8-4AC6-BD27-59A30EAB7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1591-F893-462F-9D99-8D4359473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A3BF-4A5B-4758-B119-EE97F4DFE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E241-A272-4019-932B-D9973A005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FDC1-D9A1-4013-9541-502901FA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F21B-ADA0-4187-9AE3-9343A88D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C784-5B96-4BA6-8A21-938521DC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A4F12-ECF6-4780-BBB2-0C95233FD2F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3480"/>
              <a:chOff x="635040" y="534600"/>
              <a:chExt cx="8077320" cy="30348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3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724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25CBD-75F8-4C6D-AC79-6BA3FA5BA38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825480" y="1577880"/>
            <a:ext cx="5118120" cy="4959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21 ГОД И ПЛАНОВЫЙ ПЕРИОД 2022-2023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12-15T07:40:13Z</dcterms:modified>
  <cp:revision>45</cp:revision>
  <dc:subject/>
  <dc:title>Структура собственных доходов на 2016 год бюджета Дальнереченского городского округа</dc:title>
</cp:coreProperties>
</file>